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FA7B-0046-437E-BDE7-7CC67AE846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0EB9-CAF4-4898-98CC-7C53E2F3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3100C1-C1E1-469D-AA56-4F3146F4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3858E4-F804-485D-8503-F3D5C06B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265C86-99D6-4EFB-A1CE-56F1499D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2505C1-1F77-48F6-8D83-845B6BFC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D7B885-2E14-4A94-8DCA-554E3CD8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1EA84B-78CF-480C-A68F-555CBAA0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5DD750-871B-4756-A3F0-2A892849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76A13B-65CA-401E-9CFD-33382A3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17C669-D093-44EF-9398-BC682FDDAE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1E778-D804-42E3-AF4A-07998C7E9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F148-CF0F-4FD3-B620-AEDFF4AE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D4F6-850A-4B9C-BAAE-B13FE3A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2A7A-109E-46A8-AF54-B8A2ACC3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691EC-0FD1-48D3-86B9-92430C70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E9275-3EB9-484A-82F8-4B00B00E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0404-D81B-41E1-B9EE-C43F7870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0C6A1-7738-43C6-810A-A23E4CC3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7A17-20D4-4D0D-9765-B305EB10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3ABBC-D507-4F0B-8B63-6B11502E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E2CD7-6315-4F6B-B2BE-3A708053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AAA76-CF58-4CC0-9E3B-9B67E0D4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D05B-BFBD-40BE-A3F3-A910F4DFD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39ACE-6530-4EFA-96F5-A6D84CA24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C8C92B-DFF5-4A08-BC92-AD9B74C8B0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527EFB-0165-4F14-ABD6-0D67C679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27EEB4-DBFF-4674-89FD-C5A97219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DBF9D7-8867-41CB-8895-F3B6F3EB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AE6319-84BF-40C4-ADA0-C054A2E0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AE3DA-F11C-44EB-8BC0-40284C34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7CD45-BE4F-4059-93B9-026A2CB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75EFF-DAB2-42CC-91F1-89F658CF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6F45A8-0D3F-48C4-A171-FF0CB14E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8FB63-7FD5-48C0-BDA5-8E60D6C1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0D1103-A6A2-420E-82A6-09A61480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BB7665-13A8-4888-9AD9-844F2C3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2FD97-7278-4CB4-B909-1EC12B9838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CD63F-3B94-48AF-B079-EDF36E13E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32848-70C0-4EB0-BAE9-B9AF2A84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EA66D-EC47-43B8-A4D5-8A44AE82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99C0F-C0B7-4CBB-BBE8-491428C8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92E52-F4E3-4575-99A5-FDF48570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F2D14-BE44-4210-95C0-46CC2ADE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4F094-DE8E-4ED1-A1BB-2D56F485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7331A-1FC7-4F6F-B2B9-0C15BC5C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D1F7A-D7F8-4E91-85DD-0689E9FE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237DB-C97F-49EB-91F2-AF8BD536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0C67B-9A2E-4B05-8F91-212354AE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C6FB6-DD03-47AA-A153-3D40F71E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A0549-6B53-4649-8D8D-D85075F298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5DCB8-9956-4CA7-9794-DAEE697C0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7B257-E0FB-407F-981C-A480AC34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F3024-3872-4678-BC7C-68B7052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0CC57-B2EC-4223-8D68-E071E86C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BAAD4-DB1A-4AE2-87D5-177DA73F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A5C2C-ADC9-4B9A-A5F6-7EC5A17D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2EA36-C556-4381-B2C5-63C84E21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6A821-015F-44E4-A872-C974F1C1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637CB-4148-4B35-8025-6E4F38B4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A0BDA-A41E-4095-B0AA-06063DA2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DE23C-2507-438B-B21A-190DED2B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F15C7-A317-4C19-AC4D-455C264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E3AF9-8CC2-4E18-835F-50D9DF4D7A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9184D-DB03-4409-922B-AF57C31D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454FF-C5E1-4FBF-B8EE-858FDA59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EDE6A-0549-43C3-8182-05D056E1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D5932-810E-4837-971A-65897515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71BC4-BB82-407A-9DAD-1250CBD2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E960F-C90A-4BBB-9D3B-79B392F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2A5DF-4EFA-4CC2-904D-4ED3339C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4764F-765F-4DC0-A5DB-57CBF059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458D6-F5E8-4986-BE7A-C80B4CB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63F51-C9A8-4153-AB94-062356B6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A3D4E-6F87-41D0-A76B-F41BB3A9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BDF0B-ED09-4DA3-B4F8-7C517FE5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69A17-E227-48BE-AD8A-A8A06AAB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7DF76-C0C2-44A0-90F6-B4A4C05C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5B5FF-C781-4FFD-8AA7-33183313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CA254-EECB-4FCB-9BF6-51A2C990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EACEF-9310-4EFB-BC83-AAA64A9B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0B87A-FEC3-43AF-9CA9-6A470341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D622E-EE28-466E-B39F-C128512D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9D4E2-7ADD-44AB-BCF9-8413177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ECF90-4D2E-4382-848F-D20C7B37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949BD-8746-4378-AAC4-02E58587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B430C-5EAD-4003-A90A-21CF931C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26E5E-23F7-4AE2-AE76-A3AE6932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B64DC-D8CD-470D-9679-EBDB912C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7F4BD-8DE4-4490-9096-84B3E815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14E23-FB05-4DDF-A38E-89AF7DE5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F8A2A-4003-44FB-8D5B-0DC0B9B2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6C248-94DD-4FBD-93A6-FDB59EBF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E5666-42EC-4715-AF38-0D1C4EB4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46739-C317-4501-8B05-D64486DA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8DE69-0BA1-4B7D-84AE-66853275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60FED-6A1A-424A-9871-04EB02D8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0BC06-B6E0-4022-88D0-1D4AAAE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8D547-A313-4026-B96B-C3FEF256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46F97-67E9-4426-AFFD-4559C2C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AFF5E-38D5-45A6-A036-1C8DC6A5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6F8D0-8EAE-446E-9C17-25F12534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1B717-3849-4C64-9888-255F8A2A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D3B62-F564-43D9-9520-EF89657A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647A7-96DE-4274-9A77-EAA66493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6481F-6717-4E81-958A-CA76FAD7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9BDE1-8A5D-40D6-B575-8E95FEAB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35C90-04B6-4F4E-905F-263D871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0129F-94C6-419A-8F8F-EA22D740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6FCCC-A870-4D6D-A058-646211E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FC678-02EC-4777-AF58-853E1E6F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78DF-B333-4B96-BCDA-1CBADA83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5F482-DE07-4309-8242-F47E019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B50A3-9942-44FB-A670-0C47A8B8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A3194-C74B-4782-830F-A860114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11BBE-77CD-4101-BAD2-8B5AC99A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6AB8B-7B8D-47D6-A361-77D05FEA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12300-1A12-45E3-A30C-C14E7905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BD9D8-89EE-4E1C-A05E-BA3DB78C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B02B0-E788-4FDB-AC5D-D630113B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436BC-60E5-49F2-B453-4F3D174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C027D-C755-4DAD-9630-E25E3057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351D9-736A-4EDE-AC11-6DACEAF5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B7FC7-E0AB-4FCD-9264-D60427DF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EBA35-A5E2-4523-9475-F50F8BB0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132C6-365D-43F6-B539-FF60879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445AF-F2F9-4E18-80B8-B059322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781B3-B7CA-47E1-9ECF-99CF76F8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00B36-FEC7-4BB2-BD9F-B45B5BC8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CA9A2-B960-4F34-B1E0-3FF54BA7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27FF6-662E-4926-8A34-FDF93236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D95A6-EB19-4247-8F69-6CD6C293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C1A8A-2774-467C-8E24-59C42E5B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272EF-3FC9-4C92-A5B8-8F65872D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4C5B5-F764-4009-8C12-4E1B144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E1E0E-7042-4C1D-B2E0-EF86B49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3BC57-672F-4850-AFE3-C0EB9759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C4552-F20C-4BA6-9BFE-BC45F0CD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7E880-85C6-46C4-88BE-466FF41D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FFC10-9415-40D9-87FB-42E295E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93FEB-FFE7-448E-A2C4-4F8C4F4F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951A2-080A-4B85-BB42-D016034A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E2ECB-89CD-4C3B-AE59-6F38C4AA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DC278-1182-4FAB-970B-B5BCB70C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31C6A-7463-4449-9E67-753834D9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8310-22BF-4309-9C20-67B397AD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CD63B-F204-4A9A-95C8-D3B83F3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51818-BBFE-4BC2-A9C0-70D8D4E1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A1867-0F3C-411B-A28E-9D3F9167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4C297-F7D9-485E-B42B-955399DF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3C32C-55AC-4BE8-A9B5-A36FE6E4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5C695F-A699-42F8-B472-BB164C13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7584B-1BBA-406D-B279-B7EB86C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7488F-ACF6-4349-AE3A-C17E34D1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CE5D0-14AC-45A6-A2CE-45F11E6B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2346B-0563-454C-A269-5479998E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6E02A-26A9-4A76-9DA2-44A3D3D4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6B9F8-8EDD-4AF4-867C-3E6C4F58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CDCC3-D933-4B3E-9D16-B1CDAD27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01E973-879A-4628-B28E-DC43E9B2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C60A8E-739D-4199-BF01-F2D79C0D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D7A0A5-C142-4357-98C6-6B840BF9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6EEE9-6F54-48FF-98C2-81E60638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B7985-BBD6-43E5-AB39-74401D5A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0BAE2-62DB-4E34-B470-85E6FCFD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BDE5D-338D-459B-A2C1-9014459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9C8DB-66F6-455F-825A-33900DD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8C85D-F56C-4D06-8D55-6B519A302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DC013-4C9C-4AC8-8E4F-27C7DBA1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756E2-4061-45FD-94B0-BC79A32D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D9D15-7B6E-45D7-9812-D7438C82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808E6-4CE4-4987-8448-DDE00D1E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83EE7-93E0-4832-8AA8-675A137A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49827-10BF-43BD-A0F8-C2FEBF62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828C6-C17E-4DCB-B0D6-31451B13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C0071-C641-40E1-8CCF-79EBD60F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7B760-5597-4807-A8DC-E26BEED8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A7A8A-674B-484B-A3F0-F8A5BDFD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9D78F-FA5A-4096-8C81-CFA53DEA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61096-8AA7-4507-BD58-583C160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916A9-EF92-4509-8549-42CA5FF1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DBB92-EE07-4E0F-9511-8E25DC2C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BDA74-4709-48FE-97E8-84539DA8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46857-A103-44F0-BF4E-094EBA8E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AA0EAC-59C9-4230-8D68-2CF49F9F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2FC8E-A6C0-454B-A32B-730A83DE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1F852-33C6-4182-9C42-AF074171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4DC50-0DAB-49FA-AAA9-A9185865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78D74-1A2F-420A-879A-27AC5568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9B0D3-D399-4F67-AEF2-7AB16A6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BA92E7-72A0-4748-9576-EC13B289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8F831-4859-4FF2-B8AD-07763CB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7F3E9-C7B6-4777-913B-062B0AE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106EC-181E-4C79-A5E3-BE2C43E7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312810-10C2-453F-999C-074E2FC3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6A12A-2F10-4D87-8ABE-C1208BAD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81B81-30AD-4B20-9473-5B44EF64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C52E2-AC99-4F68-8D8F-4F9410F1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761F9B-EB6E-4D29-B570-04C2128B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70DEA-9474-4732-AB6C-D12FD4C9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F407E-5497-4EB2-82E2-C75751F0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C318B9-19AA-4BBD-8ACA-81FE8A73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F671D-46A6-4236-8B78-087B183C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B6702-EAF3-44C4-9F5F-81EF999F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39D55-BA3E-43E0-9CA8-A37DF2FD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BCF688-548A-431F-8782-3D5DD5BD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F4FF4E-D017-4397-9011-A90131B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26FA4-305A-48DF-A74B-6316533E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F932F-5165-469D-8F33-8E66FE54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8C8ADE-ED95-4CB4-9B79-3CFE00E4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144BC-17DA-4114-A489-F62725F2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DB9D-02C9-4846-AE9B-23B18D5E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348CC9-1EDF-46F0-B9D7-2708C8EF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C03D4-107F-4D3D-BD7F-1CEF515B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89EED-66A0-4B0E-8AE9-40465227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798C02-DB68-4AE3-8254-B852466B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EBE83-D2AF-4BED-B528-BCAA4930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E3B83-F22C-46B1-9919-598C3F3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5C41C-F5D0-443A-A61C-378D7A8B83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4504-BD48-4E40-AC03-FA89AFDB53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C010-CA04-4E82-BDEA-A6C26C1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C98F-6CDD-4C5B-8672-85A00EC9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CA3B-D486-4783-9A16-C9CB56E5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0DAE-CCA3-4271-91C9-10EAD83D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8AE0-AB4E-481D-84AF-D69FBE8B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56C8-C9E5-4BED-82AB-6DADBAE8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F251-4440-4102-9477-F713674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44A9-DFC1-45E5-A8C9-E9136DFB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0557-D6F9-40C0-A1D7-C074E6AC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7E61-1533-4921-8D2D-4CAAA91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21A9-8B85-4284-AA5E-682A6E48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8DB7-0B17-423A-8D56-C096BB02B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4BB27-1A85-4C9E-ABD5-BDF20EE3DD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2390-24A1-4E8E-9DC5-F9A100DB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C5781-D7A4-42D2-B7FB-84F57619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72598-8647-4CE3-9C02-E7A7DF7F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C2E30-7573-4FEF-862B-DC60D645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80887-A0D7-4D2E-82D7-DFA1C38A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3A96B-C978-40E2-8A50-9480E31C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C5F1C-7612-4D36-934E-8F19EE4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9EEB10-E16E-408C-BFE0-C84F47C6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AC208-7C29-4911-867C-B404C7A0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CE308-BA3D-4182-8F21-F71C918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5113CC-4CB4-41A1-AA46-93532E84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273D-FB10-450D-BB7D-DDC363A1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B3F39-8DE0-4B40-91EB-BBF18BFAD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6E5BFC-3340-4BFC-BBC3-F0A16E1735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EE31DA-DB4F-4C0B-9AC4-0F9B42C4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590EB9-D9CE-458F-9D94-1FE8CC5F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BD4689-3C97-46B0-BFCD-B4CFB3FB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0DFA0E-D9ED-413E-85CA-7F5454E8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BDEC8B-70EC-4ECE-8A3E-F8EF1962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EF2E93-E72B-402B-80E1-8E5492C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3BF2FD-5196-4F22-AB4C-845CCFF2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651D53-D3A5-42F9-8A06-99767F1F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E706-725D-41C4-B837-EB8730BD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960148-D2F1-48C4-BC23-C2C3DF82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A00C03-79EF-40E2-9F29-439D5407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84FCCE-3D88-4509-8C41-8E6BF7F05A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2ECEF-185A-4AD6-9D81-089EA74C1E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6BC86-37C3-4044-85B2-8316625A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65F2-8E7F-46CF-9016-9E3A0EFE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7194-3476-408C-8052-92768EA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0EFCA-C501-42E7-9B90-5DAE995B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BF489-DC19-454F-B90E-C112B11E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8937C-5B38-40F1-9C30-CBF9AD96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F8A7-8243-4694-8E4D-4C31FD76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1390-7B0C-40C3-8D5A-A8CB640C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7E6BA-D5B7-4931-9CCE-CBC64504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12B5-25BC-43A0-A8E9-AC90F58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28920-D7F6-4805-B801-888EDBC3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E9626-CBB3-456D-9899-D2B04FFD9D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2AFDB-8234-45B4-8253-AB26593795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5E291-F8D3-4638-944D-E57452C6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E6536-5546-4638-BAE0-8A3F0189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F523C-6011-48C4-B909-A837D00D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AE175-5CEA-42F4-A89C-BD5D3C4B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96D1-90C7-4977-95A6-4E070CEC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635F0-94A2-452B-9256-8320BA58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7E50C-8126-4B3A-A3EF-D182722F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72253-55CB-4F99-91A7-BE465F2E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DBFD0-77BE-4E1B-9CBF-4103668A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4BDE2-B5AE-4C2B-B774-8E166487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75314-3F71-4966-844D-CEBE761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B6ABD-C480-419B-825A-BFB96DDDA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206386-6F28-4C57-A4BF-8A7DE485A1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00394B-01F5-4287-B3CD-C7E07632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EC4A9B-377F-4141-976F-AC6A2C0D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2DA9-6D8F-4FE7-9FF9-440E3A4B08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721E-204B-467A-93AC-B90EFCC534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7DBB-753F-41F6-87BC-78AD46AC4A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D906-EDA7-4E4E-92C9-567D08A2FF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934B-F30C-41CD-BA40-B00191954E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7A04-D05E-496D-8C18-8BA138EE4A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D390-0442-4D95-ABFC-6C52691FCB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C003-2302-4F22-9B42-A60A0FCE9E2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BAA6-8B3D-4B7E-8A07-3979B7E333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B906-CB42-408C-AAD2-31A6299A68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CF64-6A83-47FE-A957-715C5457779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6BC1-5ED9-4E31-AEF2-9CCF4CE0FD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E1D0-E730-4FE2-BF60-0ED3AE9648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7F1A-34FE-4D43-8D9B-ADAC9BB0C67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056-049A-4F61-8E2C-EC251074D76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A204-2233-4506-B3C1-2C5543B2414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F64D-232D-45A7-8187-AEE90A3FE54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CF25-5213-45A6-812F-A0164B525B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7CD1-4417-47D3-851E-3F880E89F17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BA30-A947-427A-B43F-0A6D9200F5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8534-7BE3-4652-83A4-42FAFA82B9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34AA-5D1F-443B-9B7D-207034B0604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98AB-FE54-4263-B562-71EDD12961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B355-148B-495E-BC96-DEB86733E97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30508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亿 以 内 数 的 认 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7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32"/>
          <p:cNvSpPr/>
          <p:nvPr/>
        </p:nvSpPr>
        <p:spPr>
          <a:xfrm>
            <a:off x="425520" y="1025640"/>
            <a:ext cx="844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以内的计数单位：一（个）、十、百、千、万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十万、百万、千万、亿。每相邻的两个计数单位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间的进率是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按照中国的计数习惯，从右边起，每四个数位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级，所以个位到千位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个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万位到千万位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万级上面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亿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数位上是几，就表示有几个这样的计数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4959360" cy="527040"/>
            <a:chOff x="0" y="101520"/>
            <a:chExt cx="4959360" cy="52704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45160" y="101520"/>
              <a:ext cx="471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662760" cy="274680"/>
              <a:chOff x="0" y="196560"/>
              <a:chExt cx="662760" cy="27468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77920" y="350640"/>
                <a:ext cx="105840" cy="13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24800" y="285840"/>
                <a:ext cx="237960" cy="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77920" y="215280"/>
                <a:ext cx="105840" cy="13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00" y="206640"/>
                <a:ext cx="237960" cy="7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000"/>
                <a:ext cx="584640" cy="6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7200"/>
                <a:ext cx="584640" cy="6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6360"/>
                <a:ext cx="584640" cy="6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584640" cy="69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8"/>
          <p:cNvSpPr/>
          <p:nvPr/>
        </p:nvSpPr>
        <p:spPr>
          <a:xfrm>
            <a:off x="399960" y="7048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  <a:ea typeface="宋体"/>
              </a:rPr>
              <a:t>下面这些数你会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1502280" y="112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，新知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5141"/>
          <p:cNvGrpSpPr/>
          <p:nvPr/>
        </p:nvGrpSpPr>
        <p:grpSpPr>
          <a:xfrm>
            <a:off x="447840" y="1282680"/>
            <a:ext cx="7790760" cy="3735000"/>
            <a:chOff x="447840" y="1282680"/>
            <a:chExt cx="7790760" cy="3735000"/>
          </a:xfrm>
        </p:grpSpPr>
        <p:pic>
          <p:nvPicPr>
            <p:cNvPr id="1012" name="图片 5137" descr="01"/>
            <p:cNvPicPr/>
            <p:nvPr/>
          </p:nvPicPr>
          <p:blipFill>
            <a:blip r:embed="rId8"/>
            <a:stretch/>
          </p:blipFill>
          <p:spPr>
            <a:xfrm>
              <a:off x="447840" y="1282680"/>
              <a:ext cx="496188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图片 5138" descr="02"/>
            <p:cNvPicPr/>
            <p:nvPr/>
          </p:nvPicPr>
          <p:blipFill>
            <a:blip r:embed="rId9"/>
            <a:stretch/>
          </p:blipFill>
          <p:spPr>
            <a:xfrm>
              <a:off x="5992560" y="1292040"/>
              <a:ext cx="2246040" cy="17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图片 5139" descr="04"/>
            <p:cNvPicPr/>
            <p:nvPr/>
          </p:nvPicPr>
          <p:blipFill>
            <a:blip r:embed="rId10"/>
            <a:stretch/>
          </p:blipFill>
          <p:spPr>
            <a:xfrm>
              <a:off x="475920" y="3249360"/>
              <a:ext cx="2184120" cy="17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图片 5140" descr="03"/>
            <p:cNvPicPr/>
            <p:nvPr/>
          </p:nvPicPr>
          <p:blipFill>
            <a:blip r:embed="rId11"/>
            <a:stretch/>
          </p:blipFill>
          <p:spPr>
            <a:xfrm>
              <a:off x="3220560" y="3234960"/>
              <a:ext cx="4984560" cy="17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6" name="Rectangle 2"/>
          <p:cNvSpPr/>
          <p:nvPr/>
        </p:nvSpPr>
        <p:spPr>
          <a:xfrm>
            <a:off x="565200" y="5067360"/>
            <a:ext cx="8137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上面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国第六次人口普查的数据。从这些图中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了解到什么？这些数你都认识吗？会读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渡：这就是我们今天要学习的内容：亿以内数的认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1228320" y="1625400"/>
            <a:ext cx="5257800" cy="35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个一是（         ）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个十是（         ）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个一百是（          ）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个一千是（          ）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6"/>
          <p:cNvSpPr/>
          <p:nvPr/>
        </p:nvSpPr>
        <p:spPr>
          <a:xfrm>
            <a:off x="4016520" y="1568520"/>
            <a:ext cx="714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1"/>
          <p:cNvSpPr/>
          <p:nvPr/>
        </p:nvSpPr>
        <p:spPr>
          <a:xfrm>
            <a:off x="3809880" y="2744640"/>
            <a:ext cx="1149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一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2"/>
          <p:cNvSpPr/>
          <p:nvPr/>
        </p:nvSpPr>
        <p:spPr>
          <a:xfrm>
            <a:off x="4273560" y="3930480"/>
            <a:ext cx="1152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一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3"/>
          <p:cNvSpPr/>
          <p:nvPr/>
        </p:nvSpPr>
        <p:spPr>
          <a:xfrm>
            <a:off x="4335480" y="5087880"/>
            <a:ext cx="108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一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7"/>
          <p:cNvSpPr/>
          <p:nvPr/>
        </p:nvSpPr>
        <p:spPr>
          <a:xfrm>
            <a:off x="892080" y="790560"/>
            <a:ext cx="1785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  <a:ea typeface="宋体"/>
              </a:rPr>
              <a:t>填一填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2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4" name="TextBox 4"/>
          <p:cNvSpPr/>
          <p:nvPr/>
        </p:nvSpPr>
        <p:spPr>
          <a:xfrm>
            <a:off x="1000080" y="444816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北京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61236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5"/>
          <p:cNvSpPr/>
          <p:nvPr/>
        </p:nvSpPr>
        <p:spPr>
          <a:xfrm>
            <a:off x="5000760" y="144792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要认识这样大的数就要先认识计数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6" name="肘形连接符 13"/>
          <p:cNvCxnSpPr/>
          <p:nvPr/>
        </p:nvCxnSpPr>
        <p:spPr>
          <a:xfrm flipV="1">
            <a:off x="4213800" y="2445840"/>
            <a:ext cx="178668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37" name="文本框 6148"/>
          <p:cNvSpPr/>
          <p:nvPr/>
        </p:nvSpPr>
        <p:spPr>
          <a:xfrm>
            <a:off x="974880" y="55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21"/>
          <p:cNvSpPr/>
          <p:nvPr/>
        </p:nvSpPr>
        <p:spPr>
          <a:xfrm>
            <a:off x="1543680" y="11268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图片 6150" descr="2"/>
          <p:cNvPicPr/>
          <p:nvPr/>
        </p:nvPicPr>
        <p:blipFill>
          <a:blip r:embed="rId8"/>
          <a:stretch/>
        </p:blipFill>
        <p:spPr>
          <a:xfrm>
            <a:off x="685800" y="1452600"/>
            <a:ext cx="4191120" cy="2814480"/>
          </a:xfrm>
          <a:prstGeom prst="rect">
            <a:avLst/>
          </a:prstGeom>
          <a:ln w="0">
            <a:noFill/>
          </a:ln>
        </p:spPr>
      </p:pic>
      <p:sp>
        <p:nvSpPr>
          <p:cNvPr id="1040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文本框 7169"/>
          <p:cNvSpPr/>
          <p:nvPr/>
        </p:nvSpPr>
        <p:spPr>
          <a:xfrm>
            <a:off x="2771640" y="5473800"/>
            <a:ext cx="298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</a:t>
            </a: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万是</a:t>
            </a:r>
            <a:r>
              <a:rPr b="0" lang="zh-CN" sz="35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十万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图片 7170" descr=""/>
          <p:cNvPicPr/>
          <p:nvPr/>
        </p:nvPicPr>
        <p:blipFill>
          <a:blip r:embed="rId1"/>
          <a:stretch/>
        </p:blipFill>
        <p:spPr>
          <a:xfrm>
            <a:off x="611280" y="3336840"/>
            <a:ext cx="7657920" cy="1771560"/>
          </a:xfrm>
          <a:prstGeom prst="rect">
            <a:avLst/>
          </a:prstGeom>
          <a:ln w="0">
            <a:noFill/>
          </a:ln>
        </p:spPr>
      </p:pic>
      <p:grpSp>
        <p:nvGrpSpPr>
          <p:cNvPr id="104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4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4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4" name="组合 1"/>
          <p:cNvGrpSpPr/>
          <p:nvPr/>
        </p:nvGrpSpPr>
        <p:grpSpPr>
          <a:xfrm>
            <a:off x="357120" y="706320"/>
            <a:ext cx="1884240" cy="459720"/>
            <a:chOff x="357120" y="706320"/>
            <a:chExt cx="1884240" cy="459720"/>
          </a:xfrm>
        </p:grpSpPr>
        <p:sp>
          <p:nvSpPr>
            <p:cNvPr id="1055" name="TextBox 3"/>
            <p:cNvSpPr/>
            <p:nvPr/>
          </p:nvSpPr>
          <p:spPr>
            <a:xfrm>
              <a:off x="461520" y="706320"/>
              <a:ext cx="17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缺角矩形 37"/>
            <p:cNvSpPr/>
            <p:nvPr/>
          </p:nvSpPr>
          <p:spPr>
            <a:xfrm>
              <a:off x="357120" y="82692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文本框 3"/>
          <p:cNvSpPr/>
          <p:nvPr/>
        </p:nvSpPr>
        <p:spPr>
          <a:xfrm>
            <a:off x="452520" y="1236600"/>
            <a:ext cx="80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题中给出了北京市的人口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1236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，这是一个比万大的数。在认识计数单位、数级与数位的基础上，分析这个数中每个数字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组合 38"/>
          <p:cNvGrpSpPr/>
          <p:nvPr/>
        </p:nvGrpSpPr>
        <p:grpSpPr>
          <a:xfrm>
            <a:off x="357120" y="2595600"/>
            <a:ext cx="2147760" cy="459720"/>
            <a:chOff x="357120" y="2595600"/>
            <a:chExt cx="2147760" cy="459720"/>
          </a:xfrm>
        </p:grpSpPr>
        <p:sp>
          <p:nvSpPr>
            <p:cNvPr id="1059" name="TextBox 3"/>
            <p:cNvSpPr/>
            <p:nvPr/>
          </p:nvSpPr>
          <p:spPr>
            <a:xfrm>
              <a:off x="461520" y="2595600"/>
              <a:ext cx="20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缺角矩形 40"/>
            <p:cNvSpPr/>
            <p:nvPr/>
          </p:nvSpPr>
          <p:spPr>
            <a:xfrm>
              <a:off x="357120" y="27162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23" descr="梨"/>
          <p:cNvPicPr/>
          <p:nvPr/>
        </p:nvPicPr>
        <p:blipFill>
          <a:blip r:embed="rId1"/>
          <a:stretch/>
        </p:blipFill>
        <p:spPr>
          <a:xfrm>
            <a:off x="7734240" y="1655640"/>
            <a:ext cx="1028880" cy="1295640"/>
          </a:xfrm>
          <a:prstGeom prst="rect">
            <a:avLst/>
          </a:prstGeom>
          <a:ln w="0">
            <a:noFill/>
          </a:ln>
        </p:spPr>
      </p:pic>
      <p:sp>
        <p:nvSpPr>
          <p:cNvPr id="1062" name="AutoShape 20"/>
          <p:cNvSpPr/>
          <p:nvPr/>
        </p:nvSpPr>
        <p:spPr>
          <a:xfrm>
            <a:off x="2693880" y="2722680"/>
            <a:ext cx="5243760" cy="1238040"/>
          </a:xfrm>
          <a:prstGeom prst="wedgeRoundRectCallout">
            <a:avLst>
              <a:gd name="adj1" fmla="val 45851"/>
              <a:gd name="adj2" fmla="val -89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8195"/>
          <p:cNvSpPr/>
          <p:nvPr/>
        </p:nvSpPr>
        <p:spPr>
          <a:xfrm>
            <a:off x="380880" y="819000"/>
            <a:ext cx="46292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是</a:t>
            </a:r>
            <a:r>
              <a:rPr b="0" lang="zh-CN" sz="35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百万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百万是</a:t>
            </a:r>
            <a:r>
              <a:rPr b="0" lang="zh-CN" sz="35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千万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一千万是</a:t>
            </a:r>
            <a:r>
              <a:rPr b="0" lang="zh-CN" sz="35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亿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8196"/>
          <p:cNvSpPr/>
          <p:nvPr/>
        </p:nvSpPr>
        <p:spPr>
          <a:xfrm>
            <a:off x="2857680" y="2722680"/>
            <a:ext cx="5079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一（个）、十、百、千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万</a:t>
            </a:r>
            <a:r>
              <a:rPr b="0" lang="en-US" sz="3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1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亿都是</a:t>
            </a:r>
            <a:r>
              <a:rPr b="0" lang="zh-CN" sz="3500" spc="-1" strike="noStrike">
                <a:solidFill>
                  <a:srgbClr val="cc0000"/>
                </a:solidFill>
                <a:latin typeface="方正楷体简体"/>
                <a:ea typeface="方正楷体简体"/>
              </a:rPr>
              <a:t>计数单位</a:t>
            </a:r>
            <a:r>
              <a:rPr b="0" lang="zh-CN" sz="3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8197"/>
          <p:cNvSpPr/>
          <p:nvPr/>
        </p:nvSpPr>
        <p:spPr>
          <a:xfrm>
            <a:off x="4040280" y="438768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：每相邻两个计数单位之间有什么关系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198"/>
          <p:cNvSpPr/>
          <p:nvPr/>
        </p:nvSpPr>
        <p:spPr>
          <a:xfrm>
            <a:off x="2750760" y="5318280"/>
            <a:ext cx="440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每相邻两个计数单位之间的进率是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8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7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1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4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9" name="文本框 9217"/>
          <p:cNvSpPr/>
          <p:nvPr/>
        </p:nvSpPr>
        <p:spPr>
          <a:xfrm>
            <a:off x="3652920" y="7160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计数单位按照一定的顺序排列起来所占的位置叫做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数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9218"/>
          <p:cNvSpPr/>
          <p:nvPr/>
        </p:nvSpPr>
        <p:spPr>
          <a:xfrm>
            <a:off x="1509480" y="123192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个数占有几个数位，我们就称它为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几位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9219"/>
          <p:cNvSpPr/>
          <p:nvPr/>
        </p:nvSpPr>
        <p:spPr>
          <a:xfrm>
            <a:off x="325440" y="1765440"/>
            <a:ext cx="8666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右边起，每四个数位是一级，个位、十位、百位、千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个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万位、十万位、百万位、千万位是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万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亿位在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亿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685800" y="2894040"/>
          <a:ext cx="6705720" cy="2514600"/>
        </p:xfrm>
        <a:graphic>
          <a:graphicData uri="http://schemas.openxmlformats.org/drawingml/2006/table">
            <a:tbl>
              <a:tblPr/>
              <a:tblGrid>
                <a:gridCol w="695160"/>
                <a:gridCol w="644760"/>
                <a:gridCol w="673200"/>
                <a:gridCol w="669600"/>
                <a:gridCol w="669960"/>
                <a:gridCol w="669960"/>
                <a:gridCol w="669960"/>
                <a:gridCol w="673200"/>
                <a:gridCol w="669960"/>
                <a:gridCol w="669960"/>
              </a:tblGrid>
              <a:tr h="8636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亿  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7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万  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7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00000"/>
                          </a:solidFill>
                          <a:latin typeface="Arial"/>
                          <a:ea typeface="宋体"/>
                        </a:rPr>
                        <a:t>个  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7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0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b4">
                        <a:alpha val="47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93" name="TextBox 9"/>
          <p:cNvSpPr/>
          <p:nvPr/>
        </p:nvSpPr>
        <p:spPr>
          <a:xfrm>
            <a:off x="6705720" y="3732120"/>
            <a:ext cx="699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10"/>
          <p:cNvSpPr/>
          <p:nvPr/>
        </p:nvSpPr>
        <p:spPr>
          <a:xfrm>
            <a:off x="6019920" y="3732120"/>
            <a:ext cx="699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1"/>
          <p:cNvSpPr/>
          <p:nvPr/>
        </p:nvSpPr>
        <p:spPr>
          <a:xfrm>
            <a:off x="5396040" y="3732120"/>
            <a:ext cx="699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12"/>
          <p:cNvSpPr/>
          <p:nvPr/>
        </p:nvSpPr>
        <p:spPr>
          <a:xfrm>
            <a:off x="4691160" y="3732120"/>
            <a:ext cx="6998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13"/>
          <p:cNvSpPr/>
          <p:nvPr/>
        </p:nvSpPr>
        <p:spPr>
          <a:xfrm>
            <a:off x="4038480" y="3732120"/>
            <a:ext cx="7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14"/>
          <p:cNvSpPr/>
          <p:nvPr/>
        </p:nvSpPr>
        <p:spPr>
          <a:xfrm>
            <a:off x="3352680" y="3732120"/>
            <a:ext cx="714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十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15"/>
          <p:cNvSpPr/>
          <p:nvPr/>
        </p:nvSpPr>
        <p:spPr>
          <a:xfrm>
            <a:off x="2666880" y="3732120"/>
            <a:ext cx="7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16"/>
          <p:cNvSpPr/>
          <p:nvPr/>
        </p:nvSpPr>
        <p:spPr>
          <a:xfrm>
            <a:off x="2028960" y="3732120"/>
            <a:ext cx="714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17"/>
          <p:cNvSpPr/>
          <p:nvPr/>
        </p:nvSpPr>
        <p:spPr>
          <a:xfrm>
            <a:off x="1371600" y="3732120"/>
            <a:ext cx="7142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685800" y="4951440"/>
            <a:ext cx="6705720" cy="360"/>
            <a:chOff x="685800" y="4951440"/>
            <a:chExt cx="6705720" cy="360"/>
          </a:xfrm>
        </p:grpSpPr>
        <p:sp>
          <p:nvSpPr>
            <p:cNvPr id="1103" name="直接连接符 9257"/>
            <p:cNvSpPr/>
            <p:nvPr/>
          </p:nvSpPr>
          <p:spPr>
            <a:xfrm>
              <a:off x="685800" y="4951440"/>
              <a:ext cx="6705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685800" y="4951440"/>
              <a:ext cx="670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文本框 9258"/>
          <p:cNvSpPr/>
          <p:nvPr/>
        </p:nvSpPr>
        <p:spPr>
          <a:xfrm>
            <a:off x="2211120" y="49514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9259"/>
          <p:cNvSpPr/>
          <p:nvPr/>
        </p:nvSpPr>
        <p:spPr>
          <a:xfrm>
            <a:off x="2820960" y="49514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9260"/>
          <p:cNvSpPr/>
          <p:nvPr/>
        </p:nvSpPr>
        <p:spPr>
          <a:xfrm>
            <a:off x="3506760" y="49514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9261"/>
          <p:cNvSpPr/>
          <p:nvPr/>
        </p:nvSpPr>
        <p:spPr>
          <a:xfrm>
            <a:off x="4192560" y="49514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9262"/>
          <p:cNvSpPr/>
          <p:nvPr/>
        </p:nvSpPr>
        <p:spPr>
          <a:xfrm>
            <a:off x="4878360" y="49514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9263"/>
          <p:cNvSpPr/>
          <p:nvPr/>
        </p:nvSpPr>
        <p:spPr>
          <a:xfrm>
            <a:off x="5564160" y="49514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9264"/>
          <p:cNvSpPr/>
          <p:nvPr/>
        </p:nvSpPr>
        <p:spPr>
          <a:xfrm>
            <a:off x="6872040" y="49514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9265"/>
          <p:cNvSpPr/>
          <p:nvPr/>
        </p:nvSpPr>
        <p:spPr>
          <a:xfrm>
            <a:off x="6186240" y="49514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9266"/>
          <p:cNvSpPr/>
          <p:nvPr/>
        </p:nvSpPr>
        <p:spPr>
          <a:xfrm>
            <a:off x="8087400" y="31989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 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9267"/>
          <p:cNvSpPr/>
          <p:nvPr/>
        </p:nvSpPr>
        <p:spPr>
          <a:xfrm>
            <a:off x="8087400" y="40370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9268"/>
          <p:cNvSpPr/>
          <p:nvPr/>
        </p:nvSpPr>
        <p:spPr>
          <a:xfrm>
            <a:off x="3111840" y="59259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十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9269"/>
          <p:cNvSpPr/>
          <p:nvPr/>
        </p:nvSpPr>
        <p:spPr>
          <a:xfrm>
            <a:off x="762120" y="40989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左箭头 9270"/>
          <p:cNvSpPr/>
          <p:nvPr/>
        </p:nvSpPr>
        <p:spPr>
          <a:xfrm>
            <a:off x="7467480" y="3351240"/>
            <a:ext cx="533520" cy="76320"/>
          </a:xfrm>
          <a:prstGeom prst="leftArrow">
            <a:avLst>
              <a:gd name="adj1" fmla="val 50000"/>
              <a:gd name="adj2" fmla="val 1747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左箭头 9271"/>
          <p:cNvSpPr/>
          <p:nvPr/>
        </p:nvSpPr>
        <p:spPr>
          <a:xfrm>
            <a:off x="7467480" y="4189320"/>
            <a:ext cx="533520" cy="76320"/>
          </a:xfrm>
          <a:prstGeom prst="leftArrow">
            <a:avLst>
              <a:gd name="adj1" fmla="val 50000"/>
              <a:gd name="adj2" fmla="val 1747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上箭头 9272"/>
          <p:cNvSpPr/>
          <p:nvPr/>
        </p:nvSpPr>
        <p:spPr>
          <a:xfrm>
            <a:off x="3630600" y="545940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1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99"/>
          <p:cNvSpPr/>
          <p:nvPr/>
        </p:nvSpPr>
        <p:spPr>
          <a:xfrm>
            <a:off x="66600" y="539640"/>
            <a:ext cx="919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选择正确答案的序号填在括号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十、百、千、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数位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级的计数单位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计数单位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万级的计数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成的最小的六位数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0568  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0658  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0865  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06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 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四万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 12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小的八位数是（   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0000   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0001   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1111111   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7"/>
          <p:cNvSpPr/>
          <p:nvPr/>
        </p:nvSpPr>
        <p:spPr>
          <a:xfrm>
            <a:off x="5543640" y="124128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8"/>
          <p:cNvSpPr/>
          <p:nvPr/>
        </p:nvSpPr>
        <p:spPr>
          <a:xfrm>
            <a:off x="6757920" y="2878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9"/>
          <p:cNvSpPr/>
          <p:nvPr/>
        </p:nvSpPr>
        <p:spPr>
          <a:xfrm>
            <a:off x="2782800" y="3973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文本框 10"/>
          <p:cNvSpPr/>
          <p:nvPr/>
        </p:nvSpPr>
        <p:spPr>
          <a:xfrm>
            <a:off x="3112920" y="507204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8" name="文本框 99"/>
          <p:cNvSpPr/>
          <p:nvPr/>
        </p:nvSpPr>
        <p:spPr>
          <a:xfrm>
            <a:off x="293760" y="68256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文本框 7"/>
          <p:cNvSpPr/>
          <p:nvPr/>
        </p:nvSpPr>
        <p:spPr>
          <a:xfrm>
            <a:off x="360360" y="1230480"/>
            <a:ext cx="842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一万是（          ）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十万是（           ）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一百万是（          ）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一千万是（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按照我国的计数习惯，从右边起，每四个数位为一级，分别为（      ）级、（      ）级和（      ）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（个）、十、百、千、万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是（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在数位表中，从右边起第一位是（         ）位，第五位是（        ）位，第六位是（        ）位，第八位是（         ）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和万位相邻的两个数位是（        ）和（             ），它们的计数单位分别是（        ）和（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8"/>
          <p:cNvSpPr/>
          <p:nvPr/>
        </p:nvSpPr>
        <p:spPr>
          <a:xfrm>
            <a:off x="3114720" y="137952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10"/>
          <p:cNvSpPr/>
          <p:nvPr/>
        </p:nvSpPr>
        <p:spPr>
          <a:xfrm>
            <a:off x="6332400" y="138096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12"/>
          <p:cNvSpPr/>
          <p:nvPr/>
        </p:nvSpPr>
        <p:spPr>
          <a:xfrm>
            <a:off x="1857240" y="191772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14"/>
          <p:cNvSpPr/>
          <p:nvPr/>
        </p:nvSpPr>
        <p:spPr>
          <a:xfrm>
            <a:off x="5603760" y="192708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文本框 15"/>
          <p:cNvSpPr/>
          <p:nvPr/>
        </p:nvSpPr>
        <p:spPr>
          <a:xfrm>
            <a:off x="1666800" y="303696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16"/>
          <p:cNvSpPr/>
          <p:nvPr/>
        </p:nvSpPr>
        <p:spPr>
          <a:xfrm>
            <a:off x="3387600" y="301320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17"/>
          <p:cNvSpPr/>
          <p:nvPr/>
        </p:nvSpPr>
        <p:spPr>
          <a:xfrm>
            <a:off x="5153040" y="302256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18"/>
          <p:cNvSpPr/>
          <p:nvPr/>
        </p:nvSpPr>
        <p:spPr>
          <a:xfrm>
            <a:off x="6546960" y="358776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计数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19"/>
          <p:cNvSpPr/>
          <p:nvPr/>
        </p:nvSpPr>
        <p:spPr>
          <a:xfrm>
            <a:off x="5910120" y="4125960"/>
            <a:ext cx="11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20"/>
          <p:cNvSpPr/>
          <p:nvPr/>
        </p:nvSpPr>
        <p:spPr>
          <a:xfrm>
            <a:off x="1176480" y="468144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21"/>
          <p:cNvSpPr/>
          <p:nvPr/>
        </p:nvSpPr>
        <p:spPr>
          <a:xfrm>
            <a:off x="4149720" y="466560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22"/>
          <p:cNvSpPr/>
          <p:nvPr/>
        </p:nvSpPr>
        <p:spPr>
          <a:xfrm>
            <a:off x="7265880" y="4681440"/>
            <a:ext cx="11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23"/>
          <p:cNvSpPr/>
          <p:nvPr/>
        </p:nvSpPr>
        <p:spPr>
          <a:xfrm>
            <a:off x="4832280" y="5202360"/>
            <a:ext cx="11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千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24"/>
          <p:cNvSpPr/>
          <p:nvPr/>
        </p:nvSpPr>
        <p:spPr>
          <a:xfrm>
            <a:off x="6497640" y="523080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十万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25"/>
          <p:cNvSpPr/>
          <p:nvPr/>
        </p:nvSpPr>
        <p:spPr>
          <a:xfrm>
            <a:off x="3608280" y="5775480"/>
            <a:ext cx="11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26"/>
          <p:cNvSpPr/>
          <p:nvPr/>
        </p:nvSpPr>
        <p:spPr>
          <a:xfrm>
            <a:off x="5078520" y="577692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25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